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7BB89F-40DA-4430-84D8-B1D37BBF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EAE8F4-41FF-4E55-A538-0F369991E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C4B364-ECEA-4D79-A624-0CEB8B1C4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6098E8-BB5B-4801-AB05-C19D4193B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8873D7-C8B0-4626-8082-EB8D4C56F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B303D8-6948-4CD7-BD16-21CE88CBA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940065-D208-4EAF-9F62-7882CA02A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C95043-2C84-421C-BB5D-D842F1BD7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B8B4F9-7692-49DC-A737-CBA9639E1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B936B7-A8CE-434F-9D1B-CC9D4826E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3FBDC1-B5C3-4319-B65B-AD0E042D4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2D2F-BE6D-4296-9F5E-35C3EF824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5E57-6C94-48DE-8073-835BE529E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B12E-220C-46EC-ABCF-A37D54BB0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B24B-A698-42CD-87B6-D08F477198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8E96-683A-42D1-9412-0AA8EC36F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C895-1828-464A-8C86-7E6666C69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B59C-9F4F-42DB-9AF9-F61DB5970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B530-051E-4A1A-A1FD-2BD1B13B2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DFAF-F618-46C4-A330-B56E6B88B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0F38-35E1-4BAC-8A1F-DF278337C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FE1B-9B4D-45CC-B205-A55665616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EE0B-F7C1-4857-8B60-FC0241C3C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D52E9-7AEC-41C1-8110-6806079EC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slide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9" Type="http://schemas.openxmlformats.org/officeDocument/2006/relationships/image" Target="../media/image8.pn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7" Type="http://schemas.openxmlformats.org/officeDocument/2006/relationships/image" Target="../media/image10.pn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6" Type="http://schemas.openxmlformats.org/officeDocument/2006/relationships/image" Target="../media/image10.png"/><Relationship Id="rId7" Type="http://schemas.openxmlformats.org/officeDocument/2006/relationships/image" Target="../media/image3.jpeg"/><Relationship Id="rId8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hyperlink" Target="http://www.google.com/imgres?imgurl=http://www.pastemagazine.com/articles/carrie-underwood-vegan07.jpg&amp;imgrefurl=http://www.pastemagazine.com/articles/2009/02/2009-grammy-predictions-and-proclamations.html%3Fp%3D8&amp;usg=__OBTItu3KEgz-WAaLINvHad4_MWE=&amp;h=319&amp;w=300&amp;sz=23&amp;hl=en&amp;start=12&amp;itbs=1&amp;tbnid=m3OTXHw5YGcVcM:&amp;tbnh=118&amp;tbnw=111&amp;prev=/images%3Fq%3Dcarrie%2Bunderwood%26hl%3Den%26safe%3Dstrict%26gbv%3D2%26tbs%3Disch:1" TargetMode="External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914400" y="2286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62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8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9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52280" y="24382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152280" y="365760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152280" y="6248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me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09480" y="6261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1219320" y="6259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iar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666880" y="388620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am really sorry about getting in the fight. I hope nothing will happen and we stay together. I love you (=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2666880" y="4495680"/>
            <a:ext cx="4496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Juliet, don’t worry about your father. He does love you and he is glad you are his daughter. He just has a lot to take in at one time. I am very proud of you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4"/>
          <p:cNvSpPr/>
          <p:nvPr/>
        </p:nvSpPr>
        <p:spPr>
          <a:xfrm>
            <a:off x="2666880" y="51814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o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am going out with my friend Mercutio today. I will try my hardest not to get in any fights. I love you Juliet (=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5"/>
          <p:cNvSpPr/>
          <p:nvPr/>
        </p:nvSpPr>
        <p:spPr>
          <a:xfrm>
            <a:off x="2666880" y="251460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ar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have a great idea for this problem that you are in.  Just contact me when you can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6"/>
          <p:cNvSpPr/>
          <p:nvPr/>
        </p:nvSpPr>
        <p:spPr>
          <a:xfrm>
            <a:off x="2666880" y="320040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a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ow! This so awkward. Paris is in here making wedding plans!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47"/>
          <p:cNvSpPr/>
          <p:nvPr/>
        </p:nvSpPr>
        <p:spPr>
          <a:xfrm>
            <a:off x="2666880" y="58672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look very beautiful tonight. When I talked to you for those couple of minutes, I felt like my heart was melting.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152280" y="1828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152280" y="1828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873080"/>
          <a:ext cx="1602000" cy="533520"/>
        </p:xfrm>
        <a:graphic>
          <a:graphicData uri="http://schemas.openxmlformats.org/drawingml/2006/table">
            <a:tbl>
              <a:tblPr/>
              <a:tblGrid>
                <a:gridCol w="1602000"/>
              </a:tblGrid>
              <a:tr h="53352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 frown, you never know who is falling in love with your smile.”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62" descr="http://t3.gstatic.com/images?q=tbn:m3OTXHw5YGcVcM:http://www.pastemagazine.com/articles/carrie-underwood-vegan0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457200"/>
            <a:ext cx="1218960" cy="1295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2" name="Picture 53" descr="imagesCAHJIQYL.jpg"/>
          <p:cNvPicPr/>
          <p:nvPr/>
        </p:nvPicPr>
        <p:blipFill>
          <a:blip r:embed="rId7"/>
          <a:stretch/>
        </p:blipFill>
        <p:spPr>
          <a:xfrm>
            <a:off x="152280" y="5410080"/>
            <a:ext cx="495360" cy="733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Ashley tisdale.jpg"/>
          <p:cNvPicPr/>
          <p:nvPr/>
        </p:nvPicPr>
        <p:blipFill>
          <a:blip r:embed="rId8"/>
          <a:stretch/>
        </p:blipFill>
        <p:spPr>
          <a:xfrm>
            <a:off x="685800" y="5486400"/>
            <a:ext cx="457200" cy="652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5" descr="channging tatum.jpg"/>
          <p:cNvPicPr/>
          <p:nvPr/>
        </p:nvPicPr>
        <p:blipFill>
          <a:blip r:embed="rId9"/>
          <a:stretch/>
        </p:blipFill>
        <p:spPr>
          <a:xfrm>
            <a:off x="1219320" y="5410080"/>
            <a:ext cx="590400" cy="79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7" descr="imagesCAHJIQYL.jpg"/>
          <p:cNvPicPr/>
          <p:nvPr/>
        </p:nvPicPr>
        <p:blipFill>
          <a:blip r:embed="rId10"/>
          <a:stretch/>
        </p:blipFill>
        <p:spPr>
          <a:xfrm>
            <a:off x="2133720" y="5105520"/>
            <a:ext cx="41112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3" descr="imagesCAHJIQYL.jpg"/>
          <p:cNvPicPr/>
          <p:nvPr/>
        </p:nvPicPr>
        <p:blipFill>
          <a:blip r:embed="rId11"/>
          <a:stretch/>
        </p:blipFill>
        <p:spPr>
          <a:xfrm>
            <a:off x="2133720" y="3733920"/>
            <a:ext cx="457200" cy="67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4" descr="Ashley tisdale.jpg"/>
          <p:cNvPicPr/>
          <p:nvPr/>
        </p:nvPicPr>
        <p:blipFill>
          <a:blip r:embed="rId12"/>
          <a:stretch/>
        </p:blipFill>
        <p:spPr>
          <a:xfrm>
            <a:off x="2133720" y="4495680"/>
            <a:ext cx="403200" cy="5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5" descr="channging tatum.jpg"/>
          <p:cNvPicPr/>
          <p:nvPr/>
        </p:nvPicPr>
        <p:blipFill>
          <a:blip r:embed="rId13"/>
          <a:stretch/>
        </p:blipFill>
        <p:spPr>
          <a:xfrm>
            <a:off x="2133720" y="2438280"/>
            <a:ext cx="48240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6" descr="channging tatum.jpg"/>
          <p:cNvPicPr/>
          <p:nvPr/>
        </p:nvPicPr>
        <p:blipFill>
          <a:blip r:embed="rId14"/>
          <a:stretch/>
        </p:blipFill>
        <p:spPr>
          <a:xfrm>
            <a:off x="2209680" y="3048120"/>
            <a:ext cx="362160" cy="48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7" descr="imagesCAHJIQYL.jpg"/>
          <p:cNvPicPr/>
          <p:nvPr/>
        </p:nvPicPr>
        <p:blipFill>
          <a:blip r:embed="rId15"/>
          <a:stretch/>
        </p:blipFill>
        <p:spPr>
          <a:xfrm>
            <a:off x="2133720" y="5791320"/>
            <a:ext cx="457200" cy="6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1"/>
          <p:cNvSpPr/>
          <p:nvPr/>
        </p:nvSpPr>
        <p:spPr>
          <a:xfrm>
            <a:off x="3352680" y="3048120"/>
            <a:ext cx="31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523880" y="6858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7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895480" y="0"/>
            <a:ext cx="914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7339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5720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4771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52280" y="2882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9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1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152280" y="32767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152280" y="3581280"/>
            <a:ext cx="16002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152280" y="48769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3200400" y="17524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205740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2209680" y="3276720"/>
            <a:ext cx="441972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alking to friends and family, reading and writing, and going to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ll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Walking, spending time with family, and reading book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ylor Swift, Carrie Underwood, and Kelli Pickl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Last Song, Letters to Juliet, and Happy Ever Aft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e time, The Hills, and American Idol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last song, Love hurts, and Family Tim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838080" y="533412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Good times (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hursday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amily and Friend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>
            <a:off x="3276720" y="49528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reets of 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309)-312-44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1905120"/>
          <a:ext cx="1525680" cy="554040"/>
        </p:xfrm>
        <a:graphic>
          <a:graphicData uri="http://schemas.openxmlformats.org/drawingml/2006/table">
            <a:tbl>
              <a:tblPr/>
              <a:tblGrid>
                <a:gridCol w="1525680"/>
              </a:tblGrid>
              <a:tr h="5540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ve will always find it’s way even if it means waiting.”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50" descr="http://t3.gstatic.com/images?q=tbn:m3OTXHw5YGcVcM:http://www.pastemagazine.com/articles/carrie-underwood-vegan0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57200"/>
            <a:ext cx="1084320" cy="1295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41" name="Picture 43" descr="carrie underwood pic.jpg"/>
          <p:cNvPicPr/>
          <p:nvPr/>
        </p:nvPicPr>
        <p:blipFill>
          <a:blip r:embed="rId9"/>
          <a:stretch/>
        </p:blipFill>
        <p:spPr>
          <a:xfrm>
            <a:off x="152280" y="5334120"/>
            <a:ext cx="709560" cy="519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4" descr="imagesCAEVNF08.jpg"/>
          <p:cNvPicPr/>
          <p:nvPr/>
        </p:nvPicPr>
        <p:blipFill>
          <a:blip r:embed="rId10"/>
          <a:stretch/>
        </p:blipFill>
        <p:spPr>
          <a:xfrm>
            <a:off x="0" y="5911920"/>
            <a:ext cx="73332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>
            <a:hlinkClick r:id="rId3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1">
            <a:hlinkClick r:id="rId4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85800" y="1523880"/>
            <a:ext cx="5867280" cy="24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xt Message Conversation with Nurs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y dad and I got in a little argume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It was pretty intense, so I had to turn to someone so my Nurse was there for me.  Here is the messages between us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rse: Everything is ok, don’t take this fight person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that would be hard to do, everything he said was hard to take 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rse: he still loves you Juli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um.. Idk about that now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rse: He does.. Just he is taking in so much right now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I guess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rse: Think of it this way, his little girl is finally growing up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533520" y="4114800"/>
            <a:ext cx="563868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g on Me, Juli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. I am Juliet. I am a Capulet. I love to do many different things. I love reading and romantic settings. I met this amazing guy named Romeo. I love him but I can’t be with him because he is a Montague. We met at this party and we only talked for a couple of minutes and we fell in love. I know its crazy. But its all true. But my dad and mother planned a wedding with Paris. But he only likes me for the money. It  is going to an adventure for 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533520" y="1523880"/>
            <a:ext cx="6400800" cy="236232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533520" y="4038480"/>
            <a:ext cx="6400800" cy="221004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0" descr="http://t3.gstatic.com/images?q=tbn:m3OTXHw5YGcVcM:http://www.pastemagazine.com/articles/carrie-underwood-vegan0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8520" y="450720"/>
            <a:ext cx="663480" cy="14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1371600" y="2057400"/>
            <a:ext cx="6095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Rom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sor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t believe that this is the tur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0">
            <a:hlinkClick r:id="rId4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>
            <a:hlinkClick r:id="rId5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066680" y="121932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28"/>
          <p:cNvSpPr/>
          <p:nvPr/>
        </p:nvSpPr>
        <p:spPr>
          <a:xfrm>
            <a:off x="1447920" y="3505320"/>
            <a:ext cx="6095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Beautiful gir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you are a strong girl but you ne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traight Connector 30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traight Connector 32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34"/>
          <p:cNvSpPr/>
          <p:nvPr/>
        </p:nvSpPr>
        <p:spPr>
          <a:xfrm>
            <a:off x="1523880" y="5181480"/>
            <a:ext cx="6096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Rom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He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I  just sent you a e-mail just to say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0" descr="http://t3.gstatic.com/images?q=tbn:m3OTXHw5YGcVcM:http://www.pastemagazine.com/articles/carrie-underwood-vegan07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8520" y="512640"/>
            <a:ext cx="889200" cy="19018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6"/>
          <p:cNvSpPr/>
          <p:nvPr/>
        </p:nvSpPr>
        <p:spPr>
          <a:xfrm>
            <a:off x="1295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x(1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4" descr="imagesCAHJIQYL.jpg"/>
          <p:cNvPicPr/>
          <p:nvPr/>
        </p:nvPicPr>
        <p:blipFill>
          <a:blip r:embed="rId10"/>
          <a:stretch/>
        </p:blipFill>
        <p:spPr>
          <a:xfrm>
            <a:off x="304920" y="5105520"/>
            <a:ext cx="1204920" cy="1314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5" descr="imagesCAHJIQYL.jpg"/>
          <p:cNvPicPr/>
          <p:nvPr/>
        </p:nvPicPr>
        <p:blipFill>
          <a:blip r:embed="rId11"/>
          <a:stretch/>
        </p:blipFill>
        <p:spPr>
          <a:xfrm>
            <a:off x="152280" y="1828800"/>
            <a:ext cx="1204920" cy="131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6" descr="Ashley tisdale.jpg"/>
          <p:cNvPicPr/>
          <p:nvPr/>
        </p:nvPicPr>
        <p:blipFill>
          <a:blip r:embed="rId12"/>
          <a:stretch/>
        </p:blipFill>
        <p:spPr>
          <a:xfrm>
            <a:off x="228600" y="3429000"/>
            <a:ext cx="106668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TextBox 24" descr=""/>
          <p:cNvPicPr/>
          <p:nvPr/>
        </p:nvPicPr>
        <p:blipFill>
          <a:blip r:embed="rId5"/>
          <a:stretch/>
        </p:blipFill>
        <p:spPr>
          <a:xfrm>
            <a:off x="1500120" y="2266920"/>
            <a:ext cx="6443640" cy="1603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0" descr="http://t3.gstatic.com/images?q=tbn:m3OTXHw5YGcVcM:http://www.pastemagazine.com/articles/carrie-underwood-vegan07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8520" y="530280"/>
            <a:ext cx="736560" cy="1560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imagesCAHJIQYL.jpg"/>
          <p:cNvPicPr/>
          <p:nvPr/>
        </p:nvPicPr>
        <p:blipFill>
          <a:blip r:embed="rId8"/>
          <a:stretch/>
        </p:blipFill>
        <p:spPr>
          <a:xfrm>
            <a:off x="228600" y="2286000"/>
            <a:ext cx="1193760" cy="17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(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>
            <a:hlinkClick r:id="rId3" action="ppaction://hlinksldjump"/>
          </p:cNvPr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24"/>
          <p:cNvSpPr/>
          <p:nvPr/>
        </p:nvSpPr>
        <p:spPr>
          <a:xfrm>
            <a:off x="1600200" y="1981080"/>
            <a:ext cx="6400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autiful Gi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you are a strong girl but you need figure out what you need to do. Your dad loves you and you know that.  You just met Romeo, just watch out with happens. I will always be here for you but don’t dig yourself a deeper hole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6"/>
          <p:cNvSpPr/>
          <p:nvPr/>
        </p:nvSpPr>
        <p:spPr>
          <a:xfrm>
            <a:off x="1676520" y="388620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autiful gi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what I am capable of, but when he yells at me and says the things that he did, hurts. But  I will watch out for what I do or say. I love him to. Romeo is amazing  guy and everyone needs to realize it. Thanks I am glad to have you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0" descr="http://t3.gstatic.com/images?q=tbn:m3OTXHw5YGcVcM:http://www.pastemagazine.com/articles/carrie-underwood-vegan0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8520" y="530280"/>
            <a:ext cx="736560" cy="1560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9" descr="Ashley tisdale.jpg"/>
          <p:cNvPicPr/>
          <p:nvPr/>
        </p:nvPicPr>
        <p:blipFill>
          <a:blip r:embed="rId7"/>
          <a:stretch/>
        </p:blipFill>
        <p:spPr>
          <a:xfrm>
            <a:off x="152280" y="1828800"/>
            <a:ext cx="1219320" cy="1490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0" descr="http://t3.gstatic.com/images?q=tbn:m3OTXHw5YGcVcM:http://www.pastemagazine.com/articles/carrie-underwood-vegan07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3809880"/>
            <a:ext cx="129564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(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>
            <a:hlinkClick r:id="rId4" action="ppaction://hlinksldjump"/>
          </p:cNvPr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>
            <a:hlinkClick r:id="rId5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066680" y="1219320"/>
            <a:ext cx="914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24"/>
          <p:cNvSpPr/>
          <p:nvPr/>
        </p:nvSpPr>
        <p:spPr>
          <a:xfrm>
            <a:off x="1676520" y="205740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llo, I  just sent you a e-mail just to say that the party was so fun. You were the most beautiful woman there. I was really depressed until I saw you. I know I am a Montague and you are a Capulet but I believe our love will find it’s way. I will do anything to be with you Juliet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1676520" y="4495680"/>
            <a:ext cx="6400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e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y. (: I had a very good time at the dance as well. Yes indeed it was a very sort time that we talked. But I did fall in love with you in that period of time. Hopefully us liking each other will stop our parents from fighting.. Lets hope anyway. Ha-ha!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0" descr="http://t3.gstatic.com/images?q=tbn:m3OTXHw5YGcVcM:http://www.pastemagazine.com/articles/carrie-underwood-vegan07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5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" descr="imagesCAHJIQYL.jpg"/>
          <p:cNvPicPr/>
          <p:nvPr/>
        </p:nvPicPr>
        <p:blipFill>
          <a:blip r:embed="rId8"/>
          <a:stretch/>
        </p:blipFill>
        <p:spPr>
          <a:xfrm>
            <a:off x="304920" y="1676520"/>
            <a:ext cx="121896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0" descr="http://t3.gstatic.com/images?q=tbn:m3OTXHw5YGcVcM:http://www.pastemagazine.com/articles/carrie-underwood-vegan07.jpg"/>
          <p:cNvPicPr/>
          <p:nvPr/>
        </p:nvPicPr>
        <p:blipFill>
          <a:blip r:embed="rId9"/>
          <a:stretch/>
        </p:blipFill>
        <p:spPr>
          <a:xfrm>
            <a:off x="228600" y="4419720"/>
            <a:ext cx="12952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 </cp:lastModifiedBy>
  <dcterms:modified xsi:type="dcterms:W3CDTF">2010-05-17T02:55:45Z</dcterms:modified>
  <cp:revision>78</cp:revision>
  <dc:subject/>
  <dc:title>Profile</dc:title>
</cp:coreProperties>
</file>